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185-F1F9-4E03-B1F5-0BC7B5AD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535-2509-4C53-B179-308ED39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42639-EE6D-4DA5-8EB0-2E36389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9BBC3-9CF7-47B7-8993-905C2C0B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02E5E-2527-445D-8C24-38FAEA0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3ADAE-8552-48B6-A0D2-53466FBB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DE011-B71F-434E-9340-3280022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E9713-BC52-4045-9415-2D09F453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8E64-8823-4565-A85C-39ECDA7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D78F5-42D3-4AF2-96B2-1B0414F5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C6A46-4972-4313-B37A-571D63B2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F86-4EBF-44D7-A61D-EB388D52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1FD-32B2-4319-B436-E6474E8B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BEA9-943B-4DC3-ABB4-1DECFA47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7886-CB91-4894-8F75-9CD2D355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AD47-05F4-4CE0-A893-EA5724F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4CC-906B-4F1F-8D0E-561835F4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35E5-521D-4B67-B03F-ABAC003F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79BD-8B5D-4005-9F28-5A24B247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7F43-B064-417F-B93C-372778A1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3EF-E50F-4DCD-9670-FD07EA18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F90-2544-4AAB-B1B7-5E22448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81C8-2B6A-4611-BAA7-305EACE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7BD2-9E60-4E35-8506-293F108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BE94-D55F-4402-9E6B-088A3EFB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1B00-923D-4988-AE65-E347EA61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7887-CA3D-4500-A101-74DFE904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8738-B217-4103-880B-462CBF86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65D9-163E-4E70-A7A0-C4EB7E3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B36C-AF07-4F5D-87D7-B14E09C8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F84E-F84D-47D7-8FC2-1DFA29F6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908-3C93-46FD-BDD9-FB54F251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E3B3-CD04-4F4A-B8C3-726DF38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E170-700D-406F-B244-8C4B5F21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FB64-FA4D-49FB-B4E0-C24A657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A07E-0215-4BE7-9A6F-4740032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18FA-0950-463F-A6EB-C05DEB9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D375-7D30-42D4-A8C1-44C9EDE9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A397-03CE-4CCA-ADEB-1DE9ACDD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CB42-BEF1-44B8-977F-D1C4FAB5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34D5-B0B5-4312-95F3-B2FDB58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3296-9891-4455-8889-30D5D4E7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CF2-E82D-4B44-BC47-68145951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66CC-4A5A-4568-BA39-AC97C75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AD6A-2552-4546-899E-466363B1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976A-FF15-4DF6-835C-ECDE8EFD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C952-3E16-4C42-BDB7-8662671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E1B0-07FF-442B-8BDD-D4C68E8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3342-A731-4DF9-85CF-5605BD23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A7FA-E81F-4AFC-A0D4-E5E510EA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0C42-85E1-4A8D-9BC7-CF895C51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F6C85-538C-4FF4-A6A0-A3629680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CE668-09BA-4418-91B2-2876AA96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87E-35C4-4158-8B66-715B9FE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C8EC-CA46-4F06-B935-5A063BA5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9729-E5F9-4F60-8ACE-2666747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35ED-519B-46FF-BB76-FFAF1FF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FD29B-76A7-41EA-AFEA-9D0D2699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2728-DF00-43C1-92A3-221FFAB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E3CB-14BF-4709-A3E0-C0C573B2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A094-37F8-4FD5-B637-DB5DDCA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0F82-A302-45B0-A008-5C10E26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9EA6-E936-4880-94C9-CFFD70C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E727-2210-4E98-A70B-758D3C84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8D5-3514-4871-A559-7406A105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8196-1718-483F-9BBF-A44EDAEB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8049-D7C6-46FF-A3D9-42550BF3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6191-8D20-4EFB-8FD9-D07F0D7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E893-5828-49E4-9F9F-E38668AB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C5B87-0C7A-458D-A17C-57F1344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35F49-1434-4D04-B4F9-1016D33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09E0-5AED-428A-A598-31EB073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1D9AB-0EB5-496F-A65D-F76CE30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3183-79B2-4A98-B421-25C77CF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2B1E-7DFA-4940-8ABA-841733ED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ADA-3EB7-4A1C-84A5-4424C5F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5505-3258-40FA-B64F-F0990303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D917E-FDEB-4C82-B9CA-24276A71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A553D-15E5-477A-8387-C4CC1ADD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28476-8040-4D94-A0CF-84250D30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F98C-049F-49B7-908E-018B2C1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52D8-92D6-42A4-A2D0-5744086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1431E-3016-44DB-972F-0B2EABD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A702-A369-426E-A7D9-35331B5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B4E2-B12A-4E2B-AF43-B06A98C6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9537-FBCF-4F86-BF1A-D10EEBFB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D0D-C7D6-489B-9569-C7A0B1DA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64CD5-1A26-4A8A-BB71-ADE37F4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E50C-2FCA-45CA-B5BE-BFA0E3C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2970A-62C1-4DC6-B16B-D6A7CFC2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7088-1574-49C0-A2EB-BE0D2C1F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FDD8-7EB3-4959-8389-E559F74E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3D66-A768-49C3-B14A-D4A6A446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51355-F173-4BB6-ABC8-779FE5DE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85301-C09D-4B2E-B4FD-9BFD5BB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4969-ADC6-4B40-969C-F8D4F8D0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F843-72EC-4FF7-8014-84DE762A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913-2E19-4BB2-B1D5-59154BC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09CC2-E0F2-47B5-B4EB-6D609A3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8648C-11A6-4516-A356-246938D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7F50-A68A-4B22-A2DD-0BAD7D8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8E4F-0E11-4176-98F8-728F773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EEFF8-FE3B-4000-A5DB-1967B5FB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FCF7-51F0-4E4F-8E41-FD5E96A3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1BFA-F8DE-45C0-BE6F-379B26B4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D3479-6F83-4AE1-A4D8-A0407A4C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DBED5-6E73-4B11-B2F6-5A1FA2BE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0E363-8C08-4C77-8020-2426B91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5E34-7F25-4426-81FE-4D2EA1379A1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AE19-2CB4-4EF9-8F9A-893A5BC87F0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50C8-F0C9-4BC2-BC82-42D19AF9963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37AA-EF5B-454E-A651-15A81BE3640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4C0-CFEE-4B9E-999C-FD8347392E3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ABF1-BA3A-4979-921B-385D1296A88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D549-E4D1-4425-9F12-40D77634C92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074-BE78-401C-9F47-0381463599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F5C1-4703-49DF-BC8A-5F40DD7B28C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12760" y="3956040"/>
            <a:ext cx="8632800" cy="1420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Igor Kamzic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Brock Univers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architecture uses a single flat address space of 2³² by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yte addresses are treated as unsigned numbers running from 0 to 2³² -1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address space is regarded as consisting of  32-bits words each of whose address is word align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 deliver enhanced performance keyword in this architecture is pipel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ipeline in ARM 11 differs from all the previous families of ARM cores in number of stages it implements (8 stage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enable 40 % better output then all previous cor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avoids delays in pipeline by using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forwarding and branch predi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techniques provide great efficiency by reducing pipeline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stall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microarchitecture pipeline is scalar (issues one instruction at the time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mproved memory access gives better overall performance significantly in ARM 11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nstructions and data remain in caches longer which in turn reduces cache miss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One of the major improvements in ARM 11 cores is non – blocking operation of memor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696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n with  pipeline  that has single issue instruction ARM 11 still manages to provide parallelism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arallelism is implemented at the back end of pipeline where we have separate units for ALU and separate units for LS (load and store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o maximize parallel pipeline ARM 11 enables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out – of – order completion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(instructions don’t have dependencies on outcome of  previous instruction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n some applications there is need for 64 – bit processor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delivers 64 – bit structure without actually implementing the 64 – bit solu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64 – bit data buses between processor integer unit and instruction and data caches and also between coprocessors and integer unit (64 – bit path allows two instructions to be fetched from cache in one cycle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is gives great performa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supports floating point as design option (cores with and cores without floating point processing unit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supports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ava Decod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6 SIMD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A Instructions (as coprocessor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formance Range (350 MHz - &gt; 1GHz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family of processors is widely used in many are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of the exampl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Ph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Pod Tou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VIDIA GoForce 610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kia E71 smartph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d many more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ARM 11 Microarchitectur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vid Cormi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ril 200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www.cs.uiuc.edu/class/fa05/cs433ug/PROCESSORS/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ARM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%2011%20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MicroArchitecture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.pdf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ww.arm.com (ARM 11 documentation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ww.wikipedia.or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viously known as Advanced RISC Mach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architecture is 32 – bit RISC processor architect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veloped by ARM Limit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dely used in embedded syste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family compromises four series of processors that implement the ARM architecture v6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is the first implementation of the ARMv6 instruction set architectur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the base for all family of ARM 11 cor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key objective in developing ARM 11 microarchitecture was to deliver high performance and low power  consumption together with low pri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RM 11 has impact on wide variety of applications in wireless, consumer, networking and automotive segmen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erior performance of ARM 11 cores is possible because of ARMv6 architect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v6 delivers superior performance trough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dia processing extens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mproved cache architect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mproved exception and interrupt hand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naligned and mixed – endian data 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is Reduced Instruction Set Computer (RISC) and it incorporates following featur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arge uniform register fi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d/store architecture where data – processing operations only operate on register contents and not directly on mem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mple addressing modes with all load/store addresses being determined from register contents and instruction fields on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addition ARM 11 architecture provides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rol over ALU and the shifter in most data processing instruction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o increment and auto decrement addressing modes to optimize program loo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d and store multiple instructions to maximize data throughp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ditional execution on almost all instructions to maximize execution throughp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has 31 general purpose 32-bit registers and 6 status regis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any of times only 16 of these registers are visible and the others are used to speed up exception process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of those 16 visible registers have special roles (stack pointer, link register and program counter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supports 7 types of excep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tempted execution of undefined instru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ftware interrupts instru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fetch ab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ab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RQ normal interru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Q fast interru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M 11 instruction set can be divided in 6 classes of instruc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ranch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processing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us register transfer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d and store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processors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eption generating instru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23:41:27Z</dcterms:created>
  <dc:creator>igor</dc:creator>
  <dc:description/>
  <dc:language>en-US</dc:language>
  <cp:lastModifiedBy>Alex</cp:lastModifiedBy>
  <dcterms:modified xsi:type="dcterms:W3CDTF">2012-01-09T15:31:18Z</dcterms:modified>
  <cp:revision>24</cp:revision>
  <dc:subject/>
  <dc:title>ARM 11 Arm Architecture</dc:title>
</cp:coreProperties>
</file>